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13.png" ContentType="image/png"/>
  <Override PartName="/ppt/media/image7.gif" ContentType="image/gif"/>
  <Override PartName="/ppt/media/image9.wmf" ContentType="image/x-wmf"/>
  <Override PartName="/ppt/media/image10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D0A2-176F-4680-8F97-BF1CCCF1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5F9-90F6-47AB-980E-345E5A12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0CC-E198-474F-A79E-4E95CCCF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695-292D-48A0-9777-923DD82E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6B56-3029-4490-9A30-12054BD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9788-3447-4432-8F5F-BDD82E34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80BA-36E4-4E8D-9219-9D5CA814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827-42EA-4BB1-BA6E-BCBDB775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1C2-B768-46F7-B984-CAC70CA2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372-FE2A-4170-BD94-FF3B29DF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E9AD-0CC5-4DC2-8310-44B1D3A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FF1-2C53-4BA2-A59D-A0D91FE8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0A0C-BF8B-4F0F-A05B-ACDA3F0D4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Kristen ITC"/>
              </a:rPr>
              <a:t>Lesson 5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Kristen ITC"/>
              </a:rPr>
              <a:t>Exploring Repeating Dec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is 066"/>
          <p:cNvPicPr/>
          <p:nvPr/>
        </p:nvPicPr>
        <p:blipFill>
          <a:blip r:embed="rId1"/>
          <a:stretch/>
        </p:blipFill>
        <p:spPr>
          <a:xfrm>
            <a:off x="1447920" y="0"/>
            <a:ext cx="6172200" cy="302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53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uld you write the decimal 0.454545… as a fra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Sunset"/>
          <p:cNvPicPr/>
          <p:nvPr/>
        </p:nvPicPr>
        <p:blipFill>
          <a:blip r:embed="rId1"/>
          <a:stretch/>
        </p:blipFill>
        <p:spPr>
          <a:xfrm>
            <a:off x="4572000" y="1828800"/>
            <a:ext cx="3962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oday’s lesson, we will look for patterns that can help us write repeating decimals as fractions.  Let’s begin working on the problem (5.3) and follow-up in pairs (pgs. 57-58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udents will break off into pai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Problem 5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Page 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Arial"/>
              </a:rPr>
              <a:t>A, B, C, 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*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MCj04298270000[1]"/>
          <p:cNvPicPr/>
          <p:nvPr/>
        </p:nvPicPr>
        <p:blipFill>
          <a:blip r:embed="rId1"/>
          <a:stretch/>
        </p:blipFill>
        <p:spPr>
          <a:xfrm>
            <a:off x="5276880" y="1905120"/>
            <a:ext cx="26161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fraction with a denominator of 9 has a decimal representation with a one-digit repeating pattern,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et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repetend is the number in the nume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fraction with a denominator of 99 has a decimal representation with a two-digit repe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0 followed by the number in the numerator if that number is less than 10; the number in the numerator if that number is equal to or greater than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fraction with a denominator of 999 has a decimal representation with a three-digit repetend: two 0’s followed by the number  in the numerator if that number is less than 10; one 0 followed by the number in the numerator if that number is equal to or greater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but less than 1000; the number in the numerator if that number is equal to or greater than 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Expl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roblem 5.3 Follow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Page 5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</a:rPr>
              <a:t>1, 2,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Follow Up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99=0.0101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99=0.020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99=0.03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with a denominator of 99 is equal to a repeating decimal.  The repeating pattern has two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Follow Up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999=0.001001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999=0.00200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999=0.0030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/999=0.010010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ction with a denominator of 999 is equal to a repeating decimal.  The repeating pattern has 3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Follow Up 5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0.333…=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0.050505…=5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0.454545…=45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 0.045045…=45/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) 10.1212…=10 12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) 3.999…=3 9/9, o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patterns in the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Question: What is the decimal representation for 19/9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20/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rite 19/9 as a mixe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Write 20/9 as a mixed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LCOS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ALG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ILY PACING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D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809880" y="2895480"/>
          <a:ext cx="4876920" cy="3276720"/>
        </p:xfrm>
        <a:graphic>
          <a:graphicData uri="http://schemas.openxmlformats.org/drawingml/2006/table">
            <a:tbl>
              <a:tblPr/>
              <a:tblGrid>
                <a:gridCol w="717840"/>
                <a:gridCol w="623880"/>
                <a:gridCol w="923760"/>
                <a:gridCol w="803160"/>
                <a:gridCol w="1808280"/>
              </a:tblGrid>
              <a:tr h="327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4a, 4b, 5, 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-1, IV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-1, V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nected Math Moving Straight Ahead – Investigations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MT Standards 4 &amp;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87-A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: What fraction is equivalent to 4.111111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: (write as a fraction and mixed numb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MPj02016340000[1]"/>
          <p:cNvPicPr/>
          <p:nvPr/>
        </p:nvPicPr>
        <p:blipFill>
          <a:blip r:embed="rId1"/>
          <a:stretch/>
        </p:blipFill>
        <p:spPr>
          <a:xfrm>
            <a:off x="4800600" y="17524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swer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.111…=37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ixed number: 4 1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ational / Ir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d you know?  Refer to text page 58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http://www.eduplace.com/math/mathsteps/7/a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7" descr="7_rationals_what1"/>
          <p:cNvPicPr/>
          <p:nvPr/>
        </p:nvPicPr>
        <p:blipFill>
          <a:blip r:embed="rId1"/>
          <a:stretch/>
        </p:blipFill>
        <p:spPr>
          <a:xfrm>
            <a:off x="4648320" y="1371600"/>
            <a:ext cx="4190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ational/Irration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Math Video Cl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104920" y="324576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youtube.com/watch?v=OjjcF0t6CZ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3825720"/>
            <a:ext cx="7315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Kristen ITC"/>
              </a:rPr>
              <a:t>ACE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Page 59 # 5 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Pages 61-62 # 26 -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 Problem #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Discussion / AC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Reflections Page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dditional Resources/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Fractions to Dec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learner.org/channel/courses/learningmath/number/session7/part_a/ring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 Well Planned D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lencoe.com/sec/math/msmath/mac04/course2/webquest/unit3.ph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teractive activities: www.ap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teractive activities: www.aa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ve Baseball Game: http://www.funbrain.com/math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8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Students will be able to distinguish between terminating and repeating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tudents will be able to identify rational and irrational nu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convert decimals to f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able to identify patterns in repeating dec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roblem of the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decimal representations of 1/33, 2/33, 3/33, and 4/3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other fractions with decimal representations the same as those of 1/33, 2/33, 3/33, and 4/3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Cj0434411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574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Answers to 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33=.0303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33=.06060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3=.09090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33=.121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2/66=.030303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/66=.060606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/66=.090909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/66=.121212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90920" y="4267080"/>
            <a:ext cx="38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Kristen ITC"/>
              </a:rPr>
              <a:t>Review-Problem 5.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each fraction as a decimal.  Tell whether the decimal is terminating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eating.  If the decimal is repeating,  tell which digits rep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) 2/3   B) 3/8   C)  5/6   D) 35/10   E)  8/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Counting decimal places (power of 1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ce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ands-on role play activi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Counting the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ttp://arcytech.org/java/b10blocks/counting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Kristen ITC"/>
              </a:rPr>
              <a:t>Problem 5.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/3 =0.666… 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/8 =0.375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/6 =0.8333…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5/10 =3.5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75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/99 =0.080808… 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rip 2008 099"/>
          <p:cNvPicPr/>
          <p:nvPr/>
        </p:nvPicPr>
        <p:blipFill>
          <a:blip r:embed="rId1"/>
          <a:stretch/>
        </p:blipFill>
        <p:spPr>
          <a:xfrm>
            <a:off x="4419720" y="152388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action representation of the decimal 0.333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3/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1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33/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Journal: Explain how you got your answer and why the other two are incorr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Kristen ITC"/>
              </a:rPr>
              <a:t>Repeating Dec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 answ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0.333… equals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Discuss journal entr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72200" y="449568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01:46:16Z</dcterms:created>
  <dc:creator>ADAM</dc:creator>
  <dc:description/>
  <dc:language>en-US</dc:language>
  <cp:lastModifiedBy>ADAM</cp:lastModifiedBy>
  <dcterms:modified xsi:type="dcterms:W3CDTF">2008-06-13T03:06:01Z</dcterms:modified>
  <cp:revision>46</cp:revision>
  <dc:subject/>
  <dc:title>Lesson 5.3</dc:title>
</cp:coreProperties>
</file>